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61B2-18E2-4962-9322-9009F2F90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0249-C569-400F-A21A-D50AFFE74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0051-B4C7-422B-AB58-64913D5A9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CE3E-FCEC-4D29-BCF3-662B81723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678E-5845-4806-A592-E61E5AAE96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F840-2C4F-4CA8-B3EC-93E80D8529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B79C3-8804-4AE5-9A3A-50DFDFCD87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4B21E-D1C5-45CA-97B3-D3970DABEB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121B3-7FA0-4A70-880A-6DF0B0A1A7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5D3E8-D759-420A-8FBC-36A29F2832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CACE7-DCFD-4F3D-959F-E1C37F9427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172F4-258F-4EF1-867D-5EB4B4281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FA1B1-3060-4556-8DCC-9435232831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0FDCE-18E5-4D62-BC4B-2D2EED88CD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4EC80-B831-4191-AD18-88A6547E3D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40C64-9808-4606-80C4-FEEDC2C5EB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0A11B-349B-446E-A79B-0500D9930F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3647-D3AB-434B-882A-B90B44B11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62B7-555D-4B75-82E4-973FCAB0A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BD79-146E-443D-9D2C-E85E4499B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399D-F38C-408E-8627-DF7842981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27ED-5EB2-4697-9672-B0F73BBD7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9E95-BF45-4F99-AF8C-595A41358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FDB4-0603-4BF8-B3F4-538734275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2.pdf" descr=""/>
          <p:cNvPicPr/>
          <p:nvPr/>
        </p:nvPicPr>
        <p:blipFill>
          <a:blip r:embed="rId2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A68F5-3DA3-46F6-9A70-83AD6D268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1.pdf" descr=""/>
          <p:cNvPicPr/>
          <p:nvPr/>
        </p:nvPicPr>
        <p:blipFill>
          <a:blip r:embed="rId2"/>
          <a:stretch/>
        </p:blipFill>
        <p:spPr>
          <a:xfrm>
            <a:off x="125280" y="641016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43" name="image2.pdf" descr=""/>
          <p:cNvPicPr/>
          <p:nvPr/>
        </p:nvPicPr>
        <p:blipFill>
          <a:blip r:embed="rId3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8B1A3-41EE-4312-9C9D-CF74BB5C8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55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100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795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  <a:ea typeface="Calibri"/>
              </a:rPr>
              <a:t>MPI-ESM 1.2 in CMI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8960" y="4148280"/>
            <a:ext cx="73785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ann Jungcl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Bittner, Thorsten Mauritsen, Monika Esch, Tatiana Ilyina, Irene Stemler, Helmuth Haak, Luis Kornblueh,  Marco Giorgetta, Karl-Hermann Wieners, Michael Botzet, Wolfgang Mueller, Kameshwar Rao Modali, Christian Reick, Reiner Schnur, Julia Pongratz, Thomas Raddatz, Hauke Schmidt, Claudia Timmreck et al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3280" y="6411960"/>
            <a:ext cx="73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BF-CMIP6 KickOff, July 19, 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200" y="334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21.jpg" descr=""/>
          <p:cNvPicPr/>
          <p:nvPr/>
        </p:nvPicPr>
        <p:blipFill>
          <a:blip r:embed="rId1"/>
          <a:stretch/>
        </p:blipFill>
        <p:spPr>
          <a:xfrm>
            <a:off x="123984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22.jpg" descr=""/>
          <p:cNvPicPr/>
          <p:nvPr/>
        </p:nvPicPr>
        <p:blipFill>
          <a:blip r:embed="rId2"/>
          <a:stretch/>
        </p:blipFill>
        <p:spPr>
          <a:xfrm>
            <a:off x="498636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8" name="image23.jpg" descr=""/>
          <p:cNvPicPr/>
          <p:nvPr/>
        </p:nvPicPr>
        <p:blipFill>
          <a:blip r:embed="rId3"/>
          <a:stretch/>
        </p:blipFill>
        <p:spPr>
          <a:xfrm>
            <a:off x="1239840" y="2473200"/>
            <a:ext cx="2903400" cy="1764000"/>
          </a:xfrm>
          <a:prstGeom prst="rect">
            <a:avLst/>
          </a:prstGeom>
          <a:ln w="0">
            <a:noFill/>
          </a:ln>
        </p:spPr>
      </p:pic>
      <p:pic>
        <p:nvPicPr>
          <p:cNvPr id="129" name="image24.png" descr=""/>
          <p:cNvPicPr/>
          <p:nvPr/>
        </p:nvPicPr>
        <p:blipFill>
          <a:blip r:embed="rId4"/>
          <a:stretch/>
        </p:blipFill>
        <p:spPr>
          <a:xfrm>
            <a:off x="5076720" y="2473200"/>
            <a:ext cx="2900520" cy="1764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25.jpg" descr=""/>
          <p:cNvPicPr/>
          <p:nvPr/>
        </p:nvPicPr>
        <p:blipFill>
          <a:blip r:embed="rId5"/>
          <a:stretch/>
        </p:blipFill>
        <p:spPr>
          <a:xfrm>
            <a:off x="1239840" y="439596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31" name="image26.jpg" descr=""/>
          <p:cNvPicPr/>
          <p:nvPr/>
        </p:nvPicPr>
        <p:blipFill>
          <a:blip r:embed="rId6"/>
          <a:stretch/>
        </p:blipFill>
        <p:spPr>
          <a:xfrm>
            <a:off x="5075280" y="4395960"/>
            <a:ext cx="2903400" cy="17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1840" y="1001880"/>
            <a:ext cx="6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8320" y="3179880"/>
            <a:ext cx="44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8320" y="4929120"/>
            <a:ext cx="48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35360" y="127080"/>
            <a:ext cx="105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8680" y="1270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14640" y="6140520"/>
            <a:ext cx="324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blocking days per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54468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but notorious biase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760" y="235584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960" y="440532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2.png" descr=""/>
          <p:cNvPicPr/>
          <p:nvPr/>
        </p:nvPicPr>
        <p:blipFill>
          <a:blip r:embed="rId1"/>
          <a:stretch/>
        </p:blipFill>
        <p:spPr>
          <a:xfrm>
            <a:off x="2281320" y="969840"/>
            <a:ext cx="4579920" cy="3124440"/>
          </a:xfrm>
          <a:prstGeom prst="rect">
            <a:avLst/>
          </a:prstGeom>
          <a:ln w="0">
            <a:noFill/>
          </a:ln>
        </p:spPr>
      </p:pic>
      <p:pic>
        <p:nvPicPr>
          <p:cNvPr id="143" name="image3.png" descr=""/>
          <p:cNvPicPr/>
          <p:nvPr/>
        </p:nvPicPr>
        <p:blipFill>
          <a:blip r:embed="rId2"/>
          <a:srcRect l="0" t="13896" r="0" b="0"/>
          <a:stretch/>
        </p:blipFill>
        <p:spPr>
          <a:xfrm>
            <a:off x="2341440" y="3664080"/>
            <a:ext cx="4579920" cy="265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8800" y="6342120"/>
            <a:ext cx="314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surface temperature b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440" y="102240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440" y="1484280"/>
            <a:ext cx="5286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4.png" descr=""/>
          <p:cNvPicPr/>
          <p:nvPr/>
        </p:nvPicPr>
        <p:blipFill>
          <a:blip r:embed="rId1"/>
          <a:stretch/>
        </p:blipFill>
        <p:spPr>
          <a:xfrm>
            <a:off x="5616720" y="1000080"/>
            <a:ext cx="3187440" cy="5229360"/>
          </a:xfrm>
          <a:prstGeom prst="rect">
            <a:avLst/>
          </a:prstGeom>
          <a:ln w="0">
            <a:noFill/>
          </a:ln>
        </p:spPr>
      </p:pic>
      <p:pic>
        <p:nvPicPr>
          <p:cNvPr id="149" name="image5.png" descr=""/>
          <p:cNvPicPr/>
          <p:nvPr/>
        </p:nvPicPr>
        <p:blipFill>
          <a:blip r:embed="rId2"/>
          <a:stretch/>
        </p:blipFill>
        <p:spPr>
          <a:xfrm>
            <a:off x="603360" y="2701800"/>
            <a:ext cx="4060800" cy="2733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0960" y="6370560"/>
            <a:ext cx="206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l et al., GBC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2480" y="6134040"/>
            <a:ext cx="250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over yrs 1986–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080" y="5429160"/>
            <a:ext cx="4225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L: CMIP5 version of J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SSO: JSBACH with YASSO by Lieski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15040" y="787320"/>
            <a:ext cx="19148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soil C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8760" y="2620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90972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an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175248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1344600"/>
            <a:ext cx="7416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gnostic nitrogen fi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7.png" descr=""/>
          <p:cNvPicPr/>
          <p:nvPr/>
        </p:nvPicPr>
        <p:blipFill>
          <a:blip r:embed="rId1"/>
          <a:srcRect l="0" t="0" r="52874" b="0"/>
          <a:stretch/>
        </p:blipFill>
        <p:spPr>
          <a:xfrm>
            <a:off x="158760" y="2598840"/>
            <a:ext cx="3997440" cy="2219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2482920"/>
            <a:ext cx="1486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 w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2359080"/>
            <a:ext cx="74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sedi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8.png" descr=""/>
          <p:cNvPicPr/>
          <p:nvPr/>
        </p:nvPicPr>
        <p:blipFill>
          <a:blip r:embed="rId2"/>
          <a:stretch/>
        </p:blipFill>
        <p:spPr>
          <a:xfrm>
            <a:off x="4591080" y="2879640"/>
            <a:ext cx="3968640" cy="2773440"/>
          </a:xfrm>
          <a:prstGeom prst="rect">
            <a:avLst/>
          </a:prstGeom>
          <a:ln w="0">
            <a:noFill/>
          </a:ln>
        </p:spPr>
      </p:pic>
      <p:pic>
        <p:nvPicPr>
          <p:cNvPr id="162" name="image7.tif" descr=""/>
          <p:cNvPicPr/>
          <p:nvPr/>
        </p:nvPicPr>
        <p:blipFill>
          <a:blip r:embed="rId3"/>
          <a:srcRect l="51770" t="9927" r="1134" b="9126"/>
          <a:stretch/>
        </p:blipFill>
        <p:spPr>
          <a:xfrm>
            <a:off x="162000" y="4641840"/>
            <a:ext cx="3994200" cy="1797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1000" y="4387680"/>
            <a:ext cx="32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poc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asted-image.png" descr=""/>
          <p:cNvPicPr/>
          <p:nvPr/>
        </p:nvPicPr>
        <p:blipFill>
          <a:blip r:embed="rId1"/>
          <a:srcRect l="0" t="0" r="3838" b="0"/>
          <a:stretch/>
        </p:blipFill>
        <p:spPr>
          <a:xfrm>
            <a:off x="241200" y="3240"/>
            <a:ext cx="835344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adaptation for CMIP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5840" y="646200"/>
            <a:ext cx="83185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for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MIP6 forcing data sets are available (although some not in their final version), some are still pending (o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in models (not only MPI-ESM) revealed issues (e.g. Tropopause boundary for stratospheric aeros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I-ESM1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and testing of CMIP6 is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elays due to late delivery and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CMIP6 output variables and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: August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8760" y="1476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s @ MPI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2640" y="671400"/>
            <a:ext cx="79488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600"/>
                </a:solidFill>
                <a:latin typeface="Arial"/>
                <a:ea typeface="Arial"/>
              </a:rPr>
              <a:t>piControl, 1%CO2increase/4x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Historicals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ScenarioMIP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P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al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Re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P/CPLD up to T255/TP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Millennium, LGM, MidHolocene (other PMIP simulations by AW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F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ised experiments driven by prescribed fluxes (in cooperation with IfM Ham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-ice (diagnos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pled ice shee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4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bon/nitroge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dealised volcanic perturb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mpacts of land Use/lan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 surfa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F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diative 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8040" y="549360"/>
            <a:ext cx="77234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Projec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storical:      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ENARIOS: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CPP:              BMBF MiK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4MIP:   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FMIP:           DFG SPP Sea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oMIP:           DFG SPP1689, CELAR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ResMIP:    H2020 PRIMAV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MIP6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BMBF-Pal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U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MIP:               BMBF PalMod / JPI: PACME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FP7 BACC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olMIP:            BMBF MiKl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200" y="10944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-relat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1680" y="789120"/>
            <a:ext cx="85392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PI-ESM1.2 for CMIP6 has been finalized, some technical issues (forcing, diagnostics) still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 -HR (ECHAM T127/ MPIOM TP04) shows considerable improvements over previous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-HR will be used for experiments in BMBF “DIC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-resolution version (MPI-ESM-1.2-LR, ECHAM T63/ MPIOM GR1.5) will be the “workhorse” for many MIPs and a testbed for further developments (e.g. nitrogen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evelopments will focus on finalising MPI-ESM-2 (ICON-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1602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asted-image.png" descr=""/>
          <p:cNvPicPr/>
          <p:nvPr/>
        </p:nvPicPr>
        <p:blipFill>
          <a:blip r:embed="rId1"/>
          <a:stretch/>
        </p:blipFill>
        <p:spPr>
          <a:xfrm>
            <a:off x="168120" y="63360"/>
            <a:ext cx="8269560" cy="631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900000">
            <a:off x="1882440" y="2530440"/>
            <a:ext cx="3416400" cy="1692360"/>
          </a:xfrm>
          <a:prstGeom prst="ellipse">
            <a:avLst/>
          </a:prstGeom>
          <a:noFill/>
          <a:ln w="10152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0000">
            <a:off x="3132360" y="3252240"/>
            <a:ext cx="178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MPI-ESM1.2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20" y="609480"/>
            <a:ext cx="5037120" cy="4837320"/>
          </a:xfrm>
          <a:prstGeom prst="ellipse">
            <a:avLst/>
          </a:pr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5513400"/>
            <a:ext cx="175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93"/>
                </a:solidFill>
                <a:latin typeface="Arial"/>
              </a:rPr>
              <a:t>MPI-ESM1.2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3440" y="3814920"/>
            <a:ext cx="49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-ESM1.2 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0720" y="4586400"/>
          <a:ext cx="6464520" cy="1188720"/>
        </p:xfrm>
        <a:graphic>
          <a:graphicData uri="http://schemas.openxmlformats.org/drawingml/2006/table">
            <a:tbl>
              <a:tblPr/>
              <a:tblGrid>
                <a:gridCol w="1468800"/>
                <a:gridCol w="1117800"/>
                <a:gridCol w="1292400"/>
                <a:gridCol w="1292760"/>
                <a:gridCol w="1292760"/>
              </a:tblGrid>
              <a:tr h="396720">
                <a:tc>
                  <a:txBody>
                    <a:bodyPr lIns="45720" rIns="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/TP6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2400" y="1558800"/>
            <a:ext cx="4098600" cy="21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 code development has been frozen on 19 Jun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-LR officially released 15 January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R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3.png" descr=""/>
          <p:cNvPicPr/>
          <p:nvPr/>
        </p:nvPicPr>
        <p:blipFill>
          <a:blip r:embed="rId2"/>
          <a:stretch/>
        </p:blipFill>
        <p:spPr>
          <a:xfrm>
            <a:off x="4519440" y="1087560"/>
            <a:ext cx="4588200" cy="25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92640" y="4570560"/>
            <a:ext cx="3764160" cy="1269720"/>
          </a:xfrm>
          <a:prstGeom prst="roundRect">
            <a:avLst>
              <a:gd name="adj" fmla="val 15000"/>
            </a:avLst>
          </a:prstGeom>
          <a:noFill/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7560" y="4579920"/>
            <a:ext cx="2846520" cy="1270080"/>
          </a:xfrm>
          <a:prstGeom prst="roundRect">
            <a:avLst>
              <a:gd name="adj" fmla="val 15000"/>
            </a:avLst>
          </a:prstGeom>
          <a:noFill/>
          <a:ln w="6336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8560" y="4253040"/>
            <a:ext cx="34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not “officially”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840" y="646200"/>
            <a:ext cx="831852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AM6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-Carlo independent column approximation (McICA) radiation scheme [option: spectral sampling in ti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es for energy conservation in atmospher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for cloud cove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tratocumulus paramete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B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OC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nostic nitrogen fixe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808200"/>
            <a:ext cx="86202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 (ECHAM6.3 T127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MiKlip-II forecast system, DCPPMIP, BMBF CMIP6 project with DK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18yrs/day on 108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860400"/>
            <a:ext cx="86202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 (ECHAM6.3 T63L47 MPIOM1.65 GR15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 fin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by defau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many MI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version with interactive carbon cycle and dynamically active OBGC exist, interactive nitrogen cycle and SPITFIRE fire module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70yrs/day on 32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868320"/>
            <a:ext cx="8620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R (ECHAM6.3 T255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ning phase, no DECK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PRIMAVERA and HighRes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PRIMAVERA “FRONTIER” version with eddy-resolving TP6M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6yrs/day on 256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CHAM5 to ECHAM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versuch17_allVar_ANN.png" descr=""/>
          <p:cNvPicPr/>
          <p:nvPr/>
        </p:nvPicPr>
        <p:blipFill>
          <a:blip r:embed="rId1"/>
          <a:stretch/>
        </p:blipFill>
        <p:spPr>
          <a:xfrm>
            <a:off x="1971720" y="-716040"/>
            <a:ext cx="6753240" cy="873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8520" y="4586400"/>
            <a:ext cx="31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: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: Nor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: Sou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: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5800" y="4700520"/>
            <a:ext cx="75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HR vs. 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18.jpg" descr=""/>
          <p:cNvPicPr/>
          <p:nvPr/>
        </p:nvPicPr>
        <p:blipFill>
          <a:blip r:embed="rId1"/>
          <a:stretch/>
        </p:blipFill>
        <p:spPr>
          <a:xfrm>
            <a:off x="1917720" y="1166760"/>
            <a:ext cx="5489640" cy="467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43160" y="5996160"/>
            <a:ext cx="440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geopotential height at 500h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" y="1677960"/>
            <a:ext cx="132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4640" y="32529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920" y="478476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